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B6FE-8B50-48E1-9A89-6C60B232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EF6B-ADDB-4D67-AC20-337B0A15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4E91-D2FE-4B68-B58E-18A1064F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192A-8FAD-4499-9E2B-1EA6331A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27D6-704D-4ED9-932D-00938C19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EA25-5DC3-4841-AE45-C556E330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169D-A3BD-4F30-848B-2697F533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D206-8E88-4D38-B073-02F3CB37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E902-EA64-4393-8844-B31A99E7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9F8D-70B8-483C-84E8-5488D664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B735-2889-41FB-95DE-1318FD39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53B1-61D3-48CE-8C4A-74F44778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FA96-DDB5-4DFD-8D06-EA779214BBC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МОЯ  МАМА-МЕДСЕСТР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Содержимое 6" descr="P1010715.JPG"/>
          <p:cNvPicPr/>
          <p:nvPr/>
        </p:nvPicPr>
        <p:blipFill>
          <a:blip r:embed="rId1"/>
          <a:stretch/>
        </p:blipFill>
        <p:spPr>
          <a:xfrm>
            <a:off x="357120" y="428760"/>
            <a:ext cx="337176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60104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рофессия моей  мамы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9680" y="1428480"/>
            <a:ext cx="83581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5f4ed"/>
                </a:solidFill>
                <a:latin typeface="Calibri"/>
              </a:rPr>
              <a:t>Моя мама работает в Соколской специальной (коррекционной школе)интернат 8 вида. Она занимает должность медсестры. Её работа заключается в том что она лечит  больных детей. И оказывает первую помощь при необходимости. Когда дети получают травмы во время подвижных игр .       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Роль математики в профессий моей мамы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14240" y="1428840"/>
            <a:ext cx="79725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В своей работе маме  постояно помогают знания по математике, полученные в процессе обучения для того, чтобы рассчитать процент дезинфицирующих растворов, калорийность  , количества  продуктов  меню   и т. д.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Мама заполняет журнал приема детей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Содержимое 3" descr="P1010716.JPG"/>
          <p:cNvPicPr/>
          <p:nvPr/>
        </p:nvPicPr>
        <p:blipFill>
          <a:blip r:embed="rId1"/>
          <a:stretch/>
        </p:blipFill>
        <p:spPr>
          <a:xfrm>
            <a:off x="500040" y="928800"/>
            <a:ext cx="80726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Ежедневно в мед. пункт обращаются дети с разными жалобами, поэтому каждое посещение ребенка фиксируется в амбулаторном журнале. В  журнале записываются жалобы, симптомы заболевания и назначенное лечение.   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дготовка к проведению к профилактической прививки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Содержимое 3" descr="P1010721.JPG"/>
          <p:cNvPicPr/>
          <p:nvPr/>
        </p:nvPicPr>
        <p:blipFill>
          <a:blip r:embed="rId1"/>
          <a:stretch/>
        </p:blipFill>
        <p:spPr>
          <a:xfrm>
            <a:off x="642960" y="785880"/>
            <a:ext cx="7500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Профилактические прививки делают детям. А так же в её обязанности  входит  профилактика заболеваний детей и проведение профилактических прививок по плану.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3:11:50Z</dcterms:created>
  <dc:creator>Admin</dc:creator>
  <dc:description/>
  <dc:language>en-US</dc:language>
  <cp:lastModifiedBy>учитель</cp:lastModifiedBy>
  <dcterms:modified xsi:type="dcterms:W3CDTF">2010-12-05T14:56:53Z</dcterms:modified>
  <cp:revision>13</cp:revision>
  <dc:subject/>
  <dc:title>Профессия моей  мамы.</dc:title>
</cp:coreProperties>
</file>