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wmf" ContentType="image/x-wm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5F3-7128-4AD9-8225-D752BB84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1DEA-6AB2-4BA4-B37B-397D10EC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55E3-E450-4ADC-9209-BBBBF77C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5314-FE9E-4FF2-B18C-52B8E179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7225-CA0F-4832-AAF2-07D99ABF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6D42-62C0-4A44-ACE8-87F9798A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89D5-8211-4D68-9BFA-5FC2ADBD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1E75-3B62-4EB6-8D79-198FF308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77C1-DFF6-46AF-B919-1562AB93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0A3D-D657-485D-8F4C-D5180A2E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E4E7-3895-4EF1-BF5C-247AE233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F7A0-2F0A-43D4-97A0-5EB48C66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E2DB-C9FA-4754-A3B0-F3311F65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F934-5A01-4780-B6C6-A4B7FC24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64CC-EE37-4C2F-A15F-FC923854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6599-9C81-44E4-BF08-23A019BF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1A11-0699-4192-B0DB-7B7191CB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81B3F-EA33-4129-A53B-23110A8B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55312-199F-4DF1-A28B-186A90AF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787206-5566-4C83-9028-EE8FB760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E7D3A-1158-4B89-8779-F1E259F5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A26B7-D2DB-4D2E-9364-C03E86FA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0716-9B49-4A9A-98C8-1933BBC8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CDA735-63E5-41E5-8F33-5BDFF2CD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962003-33E6-4418-B683-385DF035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1E289D-AE53-4D69-ACEE-0B46E34F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B1F04-B0AC-4FE4-BB85-CF601032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F2E08F-68FB-4E8B-9B4B-3C2EFDD4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153410-7A69-4670-BD3C-7032E83C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FC85CE-AE78-4AA7-81CB-13B6CEAA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35321F-808B-417D-9837-297AC606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3CC278-8CDE-43FB-819E-646978FF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6E25BA-2396-49EA-B53A-5ABE8E82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D209-284D-4487-AB43-0F1B10CD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41461E-F076-4DF9-B2DB-A0A67BAA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702B31-F92D-4DB0-86C4-9E3EF909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77F931-51AC-4AD5-A7B1-E3A7046F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52F77D-707A-490A-B4E4-9C08FF6C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3236C1-A116-4613-85D5-B0D63FF0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2F3AB3-4CBD-4CD0-9600-F527AA5F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DE1D13-4229-4A8E-A202-29180A41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BFA3AE-AB2F-4C76-9E82-AB788E8D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A3324C-5C03-40F4-95AE-FA74B396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F28D68-3C8E-41FB-AEFA-EBEE34BD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9D1E-E8D4-444F-A5EA-9682E798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EB67C6-4A4B-450B-83DA-88A937D0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136B3B-5991-45AF-A5F3-D78AC7D5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A6AC61-9D0D-4770-A62D-8EF0250A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97D8E0-A7C9-4679-8A62-2DDE2189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EEDA55-84B9-407A-B862-90684E85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9F2E32-4E7F-4871-A73F-1C73A3B9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A54D78-9FBF-4839-AB59-51C18255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C50AD4-7444-46E5-9AB7-3314B84E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0DB8A7-0D83-433A-8E3D-565F2103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9D6139-193C-4AF4-A58C-667ADC8B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AB3-F869-4037-A234-6ED7D5E0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7B736F-4C39-4E8C-8C73-9310696F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E8B66-535F-48BC-B144-4E50490E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142F3-691D-4C74-BF6A-CD2C05A7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9DDB1-1D99-4349-8EF7-A3EB4BA6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0FFF2-451C-43C6-A980-984E8EFF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BAA08-685B-465E-8494-C29CA866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F66B6-4794-4D61-B51D-262BBA26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22DD5-802E-4F35-95D2-63358309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05938-5C80-483F-AD26-A4EFEB8A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D4C80-A49E-48DF-8379-8A8A2010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B0E3-5710-4AE5-A9FB-29829E04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CCB9D-D6BF-4655-9681-EA5F55CE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35009-9860-4963-8401-FF959EDF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4068C-6D87-435D-8A17-0A75258B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ADB5F2-BDA6-4B1B-A45D-485D4AFB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755175-438B-47DA-B9B4-F635B66D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625BD9-3B77-48BD-8C64-86D21BAF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D84B74-055A-4622-A892-EECB671F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748E9B-50D1-4416-A825-9D27728B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546B12-1762-488A-AF87-2E57BA98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0525DB-B52A-48BE-876A-352C61ED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A7CC-0E78-4731-9D65-C798350B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77089E-3BB6-4206-AE35-8B20CB7B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D232DA-BEA2-4843-9BEF-7D0C3E2D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D850DB-85C7-4BC8-B51D-CA89C2CB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B5D372-898F-4823-9B4B-C7BE99F4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673467-BAAD-40B5-B4DD-8E507F08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0FDA9-AA6C-4D13-A780-4DEDADE5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548EE-3870-4420-84B4-6A54F35C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E84D0-71B9-4F24-8039-1F33C7D0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1D646-4CDC-40A8-918D-FA34BD46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D9D38-92BA-45DA-BBF0-284126D5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DA2E-F43E-4004-871B-43894C7E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DE641-9DDE-420B-84C9-B860108E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EF48B-1914-494D-A5C3-E3AF0115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11595-3677-445F-842E-F8A99B3B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B4A9B-7BA1-49F2-A759-33FCAFE2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D9C0A-597B-4970-8704-ABAC77A4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94617-C609-423E-B5D0-33684566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A6F56-F5A2-4B63-A8DC-91D65F07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4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4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ADB7-39C9-445E-BD0F-DDA91058F309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def5f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6F9B-9DAF-474D-99D7-5F0254323AFF}" type="slidenum">
              <a:rPr b="1" lang="ru-RU" sz="1400" spc="-1" strike="noStrike">
                <a:solidFill>
                  <a:srgbClr val="def5f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4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4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3195-2309-4DBA-8CC0-BE0A67F2E9CE}" type="slidenum">
              <a:rPr b="1" lang="ru-RU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4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4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8CDB-7489-4DBD-ABFF-2833296FF93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4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4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6116-9544-4B34-BEFC-1796DBFA227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4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4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6464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9B2C-C2CE-452B-A34C-B61B6CD5C34A}" type="slidenum">
              <a:rPr b="1" lang="ru-RU" sz="1400" spc="-1" strike="noStrike">
                <a:solidFill>
                  <a:srgbClr val="46464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4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4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8F1B-3470-47F2-B2D1-03035306CD82}" type="slidenum">
              <a:rPr b="1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4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4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BA21-DF3F-4AA2-9CB1-6721D0E5D18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3" descr="1524_jksfb.jpg"/>
          <p:cNvPicPr/>
          <p:nvPr/>
        </p:nvPicPr>
        <p:blipFill>
          <a:blip r:embed="rId1"/>
          <a:stretch/>
        </p:blipFill>
        <p:spPr>
          <a:xfrm>
            <a:off x="762120" y="557280"/>
            <a:ext cx="7619760" cy="574344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«Математика  в профессиях»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2400" spc="-1" strike="noStrike">
                <a:solidFill>
                  <a:srgbClr val="1d314e"/>
                </a:solidFill>
                <a:latin typeface="Calibri"/>
              </a:rPr>
              <a:t>Внеклассное мероприятие  в 5 клас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314e"/>
                </a:solidFill>
                <a:latin typeface="Calibri"/>
              </a:rPr>
              <a:t>                          </a:t>
            </a:r>
            <a:r>
              <a:rPr b="0" lang="ru-RU" sz="2400" spc="-1" strike="noStrike">
                <a:solidFill>
                  <a:srgbClr val="1d314e"/>
                </a:solidFill>
                <a:latin typeface="Calibri"/>
              </a:rPr>
              <a:t>по математи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314e"/>
                </a:solidFill>
                <a:latin typeface="Calibri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314e"/>
                </a:solidFill>
                <a:latin typeface="Calibri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314e"/>
                </a:solidFill>
                <a:latin typeface="Calibri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Calibri"/>
              </a:rPr>
              <a:t>Знайте, ребята! От знаний зависят</a:t>
            </a:r>
            <a:br>
              <a:rPr sz="2800"/>
            </a:br>
            <a:r>
              <a:rPr b="0" lang="ru-RU" sz="2800" spc="-1" strike="noStrike">
                <a:solidFill>
                  <a:srgbClr val="227a8f"/>
                </a:solidFill>
                <a:latin typeface="Calibri"/>
              </a:rPr>
              <a:t>Сила страны и здоровье людей.</a:t>
            </a:r>
            <a:br>
              <a:rPr sz="2800"/>
            </a:br>
            <a:r>
              <a:rPr b="0" lang="ru-RU" sz="2800" spc="-1" strike="noStrike">
                <a:solidFill>
                  <a:srgbClr val="227a8f"/>
                </a:solidFill>
                <a:latin typeface="Calibri"/>
              </a:rPr>
              <a:t>«Троечный» трактор в труде не помощник,</a:t>
            </a:r>
            <a:br>
              <a:rPr sz="2800"/>
            </a:br>
            <a:r>
              <a:rPr b="0" lang="ru-RU" sz="2800" spc="-1" strike="noStrike">
                <a:solidFill>
                  <a:srgbClr val="227a8f"/>
                </a:solidFill>
                <a:latin typeface="Calibri"/>
              </a:rPr>
              <a:t>Воин на «двойку» - врага он страшней.</a:t>
            </a:r>
            <a:br>
              <a:rPr sz="2800"/>
            </a:br>
            <a:endParaRPr b="0" lang="en-US" sz="28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i="1" lang="ru-RU" sz="2600" spc="-1" strike="noStrike">
                <a:solidFill>
                  <a:srgbClr val="353535"/>
                </a:solidFill>
                <a:latin typeface="Calibri"/>
              </a:rPr>
              <a:t>Труд наш сегодня – это учёба.</a:t>
            </a:r>
            <a:br>
              <a:rPr sz="2600"/>
            </a:br>
            <a:r>
              <a:rPr b="1" i="1" lang="ru-RU" sz="2600" spc="-1" strike="noStrike">
                <a:solidFill>
                  <a:srgbClr val="353535"/>
                </a:solidFill>
                <a:latin typeface="Calibri"/>
              </a:rPr>
              <a:t>             Разве нам стыдно свой труд показать?</a:t>
            </a:r>
            <a:br>
              <a:rPr sz="2600"/>
            </a:br>
            <a:r>
              <a:rPr b="1" i="1" lang="ru-RU" sz="2600" spc="-1" strike="noStrike">
                <a:solidFill>
                  <a:srgbClr val="353535"/>
                </a:solidFill>
                <a:latin typeface="Calibri"/>
              </a:rPr>
              <a:t>                Так постараемся делать работу</a:t>
            </a:r>
            <a:br>
              <a:rPr sz="2600"/>
            </a:br>
            <a:r>
              <a:rPr b="1" i="1" lang="ru-RU" sz="2600" spc="-1" strike="noStrike">
                <a:solidFill>
                  <a:srgbClr val="353535"/>
                </a:solidFill>
                <a:latin typeface="Calibri"/>
              </a:rPr>
              <a:t>                      Пусть на четыре, а лучше на пять!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“</a:t>
            </a: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Если вы хотите участвовать в большой жизни, то наполните свою голову математикой, пока есть к тому возможность. Она окажет вам потом огромную помощь во всей вашей работе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34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cc"/>
                </a:solidFill>
                <a:latin typeface="Monotype Corsiva"/>
              </a:rPr>
              <a:t>М. И. Калинин</a:t>
            </a:r>
            <a:r>
              <a:rPr b="0" lang="ru-RU" sz="29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5"/>
          <p:cNvSpPr/>
          <p:nvPr/>
        </p:nvSpPr>
        <p:spPr>
          <a:xfrm>
            <a:off x="1889280" y="1893960"/>
            <a:ext cx="535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Monotype Corsiva"/>
              </a:rPr>
              <a:t>спасиб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227a8f"/>
                </a:solidFill>
                <a:latin typeface="Calibri"/>
              </a:rPr>
              <a:t>«Греки изучали её, чтобы познать мир,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227a8f"/>
                </a:solidFill>
                <a:latin typeface="Calibri"/>
              </a:rPr>
              <a:t>а римляне –   для того, чтобы измерять земельные участк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900" spc="-1" strike="noStrike">
                <a:solidFill>
                  <a:srgbClr val="35385a"/>
                </a:solidFill>
                <a:latin typeface="Calibri"/>
              </a:rPr>
              <a:t>А для чего изучаем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35385a"/>
                </a:solidFill>
                <a:latin typeface="Calibri"/>
              </a:rPr>
              <a:t>математику мы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6" descr="Рисунок15"/>
          <p:cNvPicPr/>
          <p:nvPr/>
        </p:nvPicPr>
        <p:blipFill>
          <a:blip r:embed="rId1"/>
          <a:stretch/>
        </p:blipFill>
        <p:spPr>
          <a:xfrm>
            <a:off x="5286240" y="3143160"/>
            <a:ext cx="229716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е хочу я математику учить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кладывать умею, умножать, делить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дачу в магазине сосчитаю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Хватит знаний этих, точно знаю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не задачи больше не нужн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ебята, со мною согласны вы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227a8f"/>
                </a:solidFill>
                <a:uFillTx/>
                <a:latin typeface="Calibri"/>
              </a:rPr>
              <a:t>Страница 1  «Важная наука»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5385a"/>
                </a:solidFill>
                <a:latin typeface="Calibri"/>
              </a:rPr>
              <a:t>Наука в школе есть одн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5385a"/>
                </a:solidFill>
                <a:latin typeface="Calibri"/>
              </a:rPr>
              <a:t>Во всех профессиях нужн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5385a"/>
                </a:solidFill>
                <a:latin typeface="Calibri"/>
              </a:rPr>
              <a:t>Учителям, врачам и повара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5385a"/>
                </a:solidFill>
                <a:latin typeface="Calibri"/>
              </a:rPr>
              <a:t>Бухгалтерам, певцам и продавца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5385a"/>
                </a:solidFill>
                <a:latin typeface="Calibri"/>
              </a:rPr>
              <a:t>Всем математика важн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5385a"/>
                </a:solidFill>
                <a:latin typeface="Calibri"/>
              </a:rPr>
              <a:t>Царица всех наук он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" descr="dd36efffaaed"/>
          <p:cNvPicPr/>
          <p:nvPr/>
        </p:nvPicPr>
        <p:blipFill>
          <a:blip r:embed="rId1"/>
          <a:stretch/>
        </p:blipFill>
        <p:spPr>
          <a:xfrm>
            <a:off x="6072120" y="1785960"/>
            <a:ext cx="24289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C05-06"/>
          <p:cNvPicPr/>
          <p:nvPr/>
        </p:nvPicPr>
        <p:blipFill>
          <a:blip r:embed="rId1"/>
          <a:stretch/>
        </p:blipFill>
        <p:spPr>
          <a:xfrm>
            <a:off x="0" y="0"/>
            <a:ext cx="5118120" cy="447048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6"/>
          <p:cNvSpPr/>
          <p:nvPr/>
        </p:nvSpPr>
        <p:spPr>
          <a:xfrm>
            <a:off x="3203640" y="2349360"/>
            <a:ext cx="5616360" cy="4508640"/>
          </a:xfrm>
          <a:prstGeom prst="wedgeEllipseCallout">
            <a:avLst>
              <a:gd name="adj1" fmla="val -59666"/>
              <a:gd name="adj2" fmla="val -50671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3780000" y="3068640"/>
            <a:ext cx="4824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, ребята – пилот вертолё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кажу с удовольствием в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лько нужно бензина в полё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 ошибок считаю я с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читаю и скорость маши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рость ветра учту я при т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ку в школе учил 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 училище лётном по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C26-18"/>
          <p:cNvPicPr/>
          <p:nvPr/>
        </p:nvPicPr>
        <p:blipFill>
          <a:blip r:embed="rId1"/>
          <a:stretch/>
        </p:blipFill>
        <p:spPr>
          <a:xfrm>
            <a:off x="0" y="0"/>
            <a:ext cx="4022640" cy="3657600"/>
          </a:xfrm>
          <a:prstGeom prst="rect">
            <a:avLst/>
          </a:prstGeom>
          <a:ln w="0">
            <a:noFill/>
          </a:ln>
        </p:spPr>
      </p:pic>
      <p:sp>
        <p:nvSpPr>
          <p:cNvPr id="365" name="AutoShape 5"/>
          <p:cNvSpPr/>
          <p:nvPr/>
        </p:nvSpPr>
        <p:spPr>
          <a:xfrm rot="4420200">
            <a:off x="3814560" y="945360"/>
            <a:ext cx="5293080" cy="4932360"/>
          </a:xfrm>
          <a:prstGeom prst="wedgeEllipseCallout">
            <a:avLst>
              <a:gd name="adj1" fmla="val -31833"/>
              <a:gd name="adj2" fmla="val 64370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4572000" y="1413000"/>
            <a:ext cx="396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я - маляр, везде я нарасхва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расить дом, квартиру, дачу многие хот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колько надо краски мне посчитать легк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ду я площадь пола, стен и потол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знаю цены, тарифы, расцен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ри расчёте не упущу я ни одной копей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прибыль себе принос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математикой в школе надо друж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6" descr="PE01741_"/>
          <p:cNvPicPr/>
          <p:nvPr/>
        </p:nvPicPr>
        <p:blipFill>
          <a:blip r:embed="rId1"/>
          <a:stretch/>
        </p:blipFill>
        <p:spPr>
          <a:xfrm>
            <a:off x="250920" y="260280"/>
            <a:ext cx="3747960" cy="396072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7"/>
          <p:cNvSpPr/>
          <p:nvPr/>
        </p:nvSpPr>
        <p:spPr>
          <a:xfrm rot="343800">
            <a:off x="3725640" y="1841400"/>
            <a:ext cx="4752720" cy="3745080"/>
          </a:xfrm>
          <a:prstGeom prst="wedgeRoundRectCallout">
            <a:avLst>
              <a:gd name="adj1" fmla="val -86662"/>
              <a:gd name="adj2" fmla="val -44953"/>
              <a:gd name="adj3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 rot="360600">
            <a:off x="4152960" y="2014560"/>
            <a:ext cx="3960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адвокат, считать немного надо мн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ако и у меня математика тоже в це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математике я научился думать, рассужд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 поставить и на него ответ иск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математике я логике учил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а в работе ох как пригодила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49968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c767c"/>
                </a:solidFill>
                <a:uFillTx/>
                <a:latin typeface="Calibri"/>
              </a:rPr>
              <a:t>Страница 2 « Для чего нужна математика»</a:t>
            </a:r>
            <a:br>
              <a:rPr sz="4000"/>
            </a:b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Calibri"/>
              </a:rPr>
              <a:t>Математика нужна всем людям на земле. Без математики человек не сможет решать, мерить и считать. Невозможно построить дом, сосчитать деньги в кармане, измерить расстояние. Если бы человек не знал математику, он бы не смог изобрести самолёт, автомобиль, стиральную машину, холодильник, телевизор и другую технику или программу. Математика нужна в истории, в жизни, физике, черчении и даже в русском языке . Мы знаем, что в алфавите тридцать три буквы Математика позволяет человеку думать. Математика нужна в повседневной жизни: например, при кройке шитья, приготовления пищи или при денежных вопроса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78bb8"/>
                </a:solidFill>
                <a:uFillTx/>
                <a:latin typeface="Calibri"/>
              </a:rPr>
              <a:t>Страница </a:t>
            </a:r>
            <a:r>
              <a:rPr b="1" lang="ru-RU" sz="4000" spc="-1" strike="noStrike" u="sng">
                <a:solidFill>
                  <a:srgbClr val="878bb8"/>
                </a:solidFill>
                <a:uFillTx/>
                <a:latin typeface="Calibri"/>
              </a:rPr>
              <a:t>3.  Математика в профессии моих родителей</a:t>
            </a:r>
            <a:r>
              <a:rPr b="0" lang="ru-RU" sz="4000" spc="-1" strike="noStrike" u="sng">
                <a:solidFill>
                  <a:srgbClr val="878bb8"/>
                </a:solidFill>
                <a:uFillTx/>
                <a:latin typeface="Calibri"/>
              </a:rPr>
              <a:t>   </a:t>
            </a:r>
            <a:br>
              <a:rPr sz="4000"/>
            </a:b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pic>
        <p:nvPicPr>
          <p:cNvPr id="373" name="Содержимое 6" descr="P1010715.JPG"/>
          <p:cNvPicPr/>
          <p:nvPr/>
        </p:nvPicPr>
        <p:blipFill>
          <a:blip r:embed="rId1"/>
          <a:stretch/>
        </p:blipFill>
        <p:spPr>
          <a:xfrm>
            <a:off x="214200" y="1714680"/>
            <a:ext cx="33703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1:42:25Z</dcterms:created>
  <dc:creator>dns</dc:creator>
  <dc:description/>
  <dc:language>en-US</dc:language>
  <cp:lastModifiedBy>учитель</cp:lastModifiedBy>
  <dcterms:modified xsi:type="dcterms:W3CDTF">2010-12-05T15:07:10Z</dcterms:modified>
  <cp:revision>70</cp:revision>
  <dc:subject/>
  <dc:title>Слайд 1</dc:title>
</cp:coreProperties>
</file>